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27.jpeg" ContentType="image/jpeg"/>
  <Override PartName="/ppt/media/image12.png" ContentType="image/pn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0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41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2677-5F79-41DF-8E8F-78C8B5D62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10F5-5E7D-4013-B22B-5B2461972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43A-9DB3-4F15-A6A5-187BEF80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B79-BD4A-413C-B8DC-5554F105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48C-5713-4305-97A5-963A16CF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251-A16B-4221-92BE-57C0E10F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E5BF-5EAD-4F0E-ABF6-82941E7E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48B4-D464-440C-92D7-8458A4EF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59E2-A08B-4A27-B3F1-66889A8E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D127-94D5-488B-BF9C-8A9622D8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929F-0FE1-4520-8A62-455D6E62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4492-A910-4DEE-8A86-1C209CE1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4C44-0243-426C-924C-8AFDAE2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E97-B65D-4BAA-94BA-88454357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4134-87D4-4244-8EEC-66E61F4B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4922-B14C-4ABB-9ABF-9BDE99A2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1280-59A3-4D24-BCC2-E0265651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463D-8B36-475B-ABF6-D2A66D24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3445-DC25-4062-B36A-E501A07A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226B-965C-41D4-81ED-39AC8D39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44EB2-FBA8-45BC-A2E9-8718B2B2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AF3E-82AF-4387-96DD-7FEEEF85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A680-53DE-4BBA-BB95-E6F9EE0E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2497-9138-44DE-8A57-38F61C5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0B3-0E13-4F7B-9AFF-5664EF69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3136-2033-4CA0-99D7-22042DFA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6365-98AC-4A48-AC2F-DB71342B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5D0F-B741-455B-B153-9B3AF1D1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59E5-D7C1-4DF5-B4C0-7B97F432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D208C-38F1-40C6-B27E-B82E5570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908A-9AD3-4092-A75E-09D14245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D021-9F05-4A29-B4CE-AA625E87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338-8886-45D3-B7ED-2D5A2AF5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C89-A7FD-41FA-9483-BF46D60D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F66E-03C5-44DE-922D-D541E3F1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BA1-D6AE-4772-A92E-3BDFD6F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134-6EBD-4D18-AB63-437385ED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1CB-EA51-4256-B25B-01784C22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047C-0AF4-43A1-94D9-7651599136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4CC7-AEFE-41D7-BBD1-1A507EC86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DAE8-EC52-4366-8BB8-D3F3872AE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58840" y="1700280"/>
            <a:ext cx="87152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Трауматологија</a:t>
            </a:r>
            <a:r>
              <a:rPr b="1" lang="sr-Latn-CS" sz="4400" spc="-1" strike="noStrike">
                <a:solidFill>
                  <a:srgbClr val="0e1e2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у</a:t>
            </a:r>
            <a:r>
              <a:rPr b="1" lang="sr-Latn-CS" sz="4400" spc="-1" strike="noStrike">
                <a:solidFill>
                  <a:srgbClr val="0e1e2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максилофацијалној</a:t>
            </a:r>
            <a:r>
              <a:rPr b="1" lang="sr-Latn-CS" sz="4400" spc="-1" strike="noStrike">
                <a:solidFill>
                  <a:srgbClr val="0e1e2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e1e20"/>
                </a:solidFill>
                <a:latin typeface="Cambria"/>
              </a:rPr>
              <a:t>регији</a:t>
            </a:r>
            <a:r>
              <a:rPr b="1" lang="en-US" sz="4400" spc="-1" strike="noStrike">
                <a:solidFill>
                  <a:srgbClr val="0e1e20"/>
                </a:solidFill>
                <a:latin typeface="Cambria"/>
              </a:rPr>
              <a:t>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8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84200" y="460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ЛВЕОЛАРН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тв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ломљ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вој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лоци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атин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стибулар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аниј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уд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ч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ују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ату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мат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ник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цеп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D40_x140_L"/>
          <p:cNvPicPr/>
          <p:nvPr/>
        </p:nvPicPr>
        <p:blipFill>
          <a:blip r:embed="rId3"/>
          <a:stretch/>
        </p:blipFill>
        <p:spPr>
          <a:xfrm>
            <a:off x="2786040" y="4214880"/>
            <a:ext cx="2971800" cy="2201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traumatologia01"/>
          <p:cNvPicPr/>
          <p:nvPr/>
        </p:nvPicPr>
        <p:blipFill>
          <a:blip r:embed="rId4"/>
          <a:stretch/>
        </p:blipFill>
        <p:spPr>
          <a:xfrm>
            <a:off x="5857920" y="421488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maxfx"/>
          <p:cNvPicPr/>
          <p:nvPr/>
        </p:nvPicPr>
        <p:blipFill>
          <a:blip r:embed="rId5"/>
          <a:stretch/>
        </p:blipFill>
        <p:spPr>
          <a:xfrm>
            <a:off x="357120" y="4071960"/>
            <a:ext cx="22273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АГИТАЛ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356840"/>
            <a:ext cx="51339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гитал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д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бино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верзал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гитал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е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ољ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а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у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и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осредн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лиз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диј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ту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врд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ршт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в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син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image002"/>
          <p:cNvPicPr/>
          <p:nvPr/>
        </p:nvPicPr>
        <p:blipFill>
          <a:blip r:embed="rId2"/>
          <a:stretch/>
        </p:blipFill>
        <p:spPr>
          <a:xfrm>
            <a:off x="5335560" y="2571840"/>
            <a:ext cx="35704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ТРАНСВЕРЗАЛ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рансверзал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нилатера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латер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во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Fort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LeFort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Fort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002f"/>
          <p:cNvPicPr/>
          <p:nvPr/>
        </p:nvPicPr>
        <p:blipFill>
          <a:blip r:embed="rId2"/>
          <a:stretch/>
        </p:blipFill>
        <p:spPr>
          <a:xfrm>
            <a:off x="1371600" y="3352680"/>
            <a:ext cx="64008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ТРАНСВЕРЗАЛН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2676fe95dedb1783bfdee79362ef136"/>
          <p:cNvPicPr/>
          <p:nvPr/>
        </p:nvPicPr>
        <p:blipFill>
          <a:blip r:embed="rId2"/>
          <a:stretch/>
        </p:blipFill>
        <p:spPr>
          <a:xfrm>
            <a:off x="1600200" y="1600200"/>
            <a:ext cx="5943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FOR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5435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з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зигомат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 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а: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вили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д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он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а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ључ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нтоалвеола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ло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ћ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еб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тер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ер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риформ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ен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кс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д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теригомакси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с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омљ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septum na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LF10_i300a_L"/>
          <p:cNvPicPr/>
          <p:nvPr/>
        </p:nvPicPr>
        <p:blipFill>
          <a:blip r:embed="rId2"/>
          <a:stretch/>
        </p:blipFill>
        <p:spPr>
          <a:xfrm>
            <a:off x="5413320" y="2421000"/>
            <a:ext cx="37306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1142640"/>
            <a:ext cx="8543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вољ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с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кр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спек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л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узиј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сти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д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н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ло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т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пертогнат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ж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дуже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уч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сеудопрогениј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уш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кр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т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њ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ухваћ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ст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еб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врд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ц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њи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зокож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6814W"/>
          <p:cNvPicPr/>
          <p:nvPr/>
        </p:nvPicPr>
        <p:blipFill>
          <a:blip r:embed="rId2"/>
          <a:stretch/>
        </p:blipFill>
        <p:spPr>
          <a:xfrm>
            <a:off x="1143000" y="4500720"/>
            <a:ext cx="2243160" cy="1985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JClinImagingSci_2012_2_1_28_96543_u5"/>
          <p:cNvPicPr/>
          <p:nvPr/>
        </p:nvPicPr>
        <p:blipFill>
          <a:blip r:embed="rId3"/>
          <a:stretch/>
        </p:blipFill>
        <p:spPr>
          <a:xfrm>
            <a:off x="3929040" y="4500720"/>
            <a:ext cx="26290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5120" y="-3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920" y="1213920"/>
            <a:ext cx="4857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зигомат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рамид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тањ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атин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феноид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тмоид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рим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тмоид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утрашњ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раорбит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гоматикомаксила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ту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теригоид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ихов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тер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упљ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LF20_i100_L"/>
          <p:cNvPicPr/>
          <p:nvPr/>
        </p:nvPicPr>
        <p:blipFill>
          <a:blip r:embed="rId2"/>
          <a:stretch/>
        </p:blipFill>
        <p:spPr>
          <a:xfrm>
            <a:off x="4997520" y="2500200"/>
            <a:ext cx="368928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686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ломљ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е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ље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ни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ор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гриж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дуж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рат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ж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куш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е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из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мануел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тановљ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нормал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венту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епит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врђ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еб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мат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ав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раж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ход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нзибилит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n. infraorbitalis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ит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FORT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2769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празигомат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кључ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ед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гомати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мпора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а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кодђ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мину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тмоид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ре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оназал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ал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тур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тај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кримал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ми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ал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тмоид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нутраш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г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су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ал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рио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ат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теригомаксилар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су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териго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в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кот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д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н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онтал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ту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мпорал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теригомаксилар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су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а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нијом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едњ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вој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кси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слоцир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до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тал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вор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грижа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ћ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м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ибро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фракту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LeFort3c"/>
          <p:cNvPicPr/>
          <p:nvPr/>
        </p:nvPicPr>
        <p:blipFill>
          <a:blip r:embed="rId2"/>
          <a:stretch/>
        </p:blipFill>
        <p:spPr>
          <a:xfrm>
            <a:off x="6472080" y="2000160"/>
            <a:ext cx="26719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FORT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48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ту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ће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ип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ли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оч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лекант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њира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ф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шфеј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h 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дуж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го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мнестич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врд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ључ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hinoliquorrho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стр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бнорм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та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гомат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лекс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ас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ент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рв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image030"/>
          <p:cNvPicPr/>
          <p:nvPr/>
        </p:nvPicPr>
        <p:blipFill>
          <a:blip r:embed="rId2"/>
          <a:stretch/>
        </p:blipFill>
        <p:spPr>
          <a:xfrm>
            <a:off x="2714760" y="4429080"/>
            <a:ext cx="3528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-10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и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силофациј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0-70%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5-24%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гомат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9.5-20%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стали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зи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тиолог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обраћ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пликованиј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и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е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ал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рв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0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збор метода лечења зависи од врсте и места линије прелома, постојања зуба, повреда меких ткива и општег стања повређен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ечење изолованог прелома горње вилице без дислокације не представља хируршки проблем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ечење се састоји из репозиције и имобилиза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позиција се врши конзервативно или хирурш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зерватив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го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е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гов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из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ект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в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е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рилат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линто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р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уел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умиц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ђувил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уч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ставља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луз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р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ил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ича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гатур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ANd9GcRPOcIf9VBKZ-UXdBCTIzIob1LJadhTVZVwJTG-lKNriSmO0UT1"/>
          <p:cNvPicPr/>
          <p:nvPr/>
        </p:nvPicPr>
        <p:blipFill>
          <a:blip r:embed="rId2"/>
          <a:stretch/>
        </p:blipFill>
        <p:spPr>
          <a:xfrm>
            <a:off x="6156360" y="4797360"/>
            <a:ext cx="21067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5920" y="1428840"/>
            <a:ext cx="517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рет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де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хнолог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вор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лоч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дапт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лас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љу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зич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ст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пеш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но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кс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и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игну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томс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ж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ро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ј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ључ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дјувилич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кса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биј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љ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стет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он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раћ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способ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10006_2003_494_Fig3_HTML"/>
          <p:cNvPicPr/>
          <p:nvPr/>
        </p:nvPicPr>
        <p:blipFill>
          <a:blip r:embed="rId2"/>
          <a:stretch/>
        </p:blipFill>
        <p:spPr>
          <a:xfrm>
            <a:off x="5715000" y="1428840"/>
            <a:ext cx="3117960" cy="264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B9781455705542000174_f017-011-9781455705542"/>
          <p:cNvPicPr/>
          <p:nvPr/>
        </p:nvPicPr>
        <p:blipFill>
          <a:blip r:embed="rId3"/>
          <a:stretch/>
        </p:blipFill>
        <p:spPr>
          <a:xfrm>
            <a:off x="5715000" y="4246560"/>
            <a:ext cx="31384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IMG_1187"/>
          <p:cNvPicPr/>
          <p:nvPr/>
        </p:nvPicPr>
        <p:blipFill>
          <a:blip r:embed="rId2"/>
          <a:stretch/>
        </p:blipFill>
        <p:spPr>
          <a:xfrm>
            <a:off x="457200" y="1600200"/>
            <a:ext cx="3733920" cy="2895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NatlJMaxillofacSurg_2013_4_2_173_127646_f5"/>
          <p:cNvPicPr/>
          <p:nvPr/>
        </p:nvPicPr>
        <p:blipFill>
          <a:blip r:embed="rId3"/>
          <a:stretch/>
        </p:blipFill>
        <p:spPr>
          <a:xfrm>
            <a:off x="4343400" y="160020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SSS_Floor_Repair1"/>
          <p:cNvPicPr/>
          <p:nvPr/>
        </p:nvPicPr>
        <p:blipFill>
          <a:blip r:embed="rId4"/>
          <a:stretch/>
        </p:blipFill>
        <p:spPr>
          <a:xfrm>
            <a:off x="914400" y="4648320"/>
            <a:ext cx="71629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истурен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р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туре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лож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чи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каз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терату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8-20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аж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олог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овљ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же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пографс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а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вак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ш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докраниј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немар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еђива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1000" y="155736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лож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истуре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ак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сорб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но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ој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се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и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рект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ж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мер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рав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ре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DL00006_105433_1"/>
          <p:cNvPicPr/>
          <p:nvPr/>
        </p:nvPicPr>
        <p:blipFill>
          <a:blip r:embed="rId2"/>
          <a:stretch/>
        </p:blipFill>
        <p:spPr>
          <a:xfrm>
            <a:off x="5857920" y="1785960"/>
            <a:ext cx="2886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МПТ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ЕСТ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ОРМ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МОНГОЛОИ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ПЛО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УШТЕ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В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РБИТ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ЕЖ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П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005f"/>
          <p:cNvPicPr/>
          <p:nvPr/>
        </p:nvPicPr>
        <p:blipFill>
          <a:blip r:embed="rId2"/>
          <a:stretch/>
        </p:blipFill>
        <p:spPr>
          <a:xfrm>
            <a:off x="6143760" y="1500120"/>
            <a:ext cx="2819160" cy="1714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maxillofacial-trauma4"/>
          <p:cNvPicPr/>
          <p:nvPr/>
        </p:nvPicPr>
        <p:blipFill>
          <a:blip r:embed="rId3"/>
          <a:stretch/>
        </p:blipFill>
        <p:spPr>
          <a:xfrm>
            <a:off x="6172200" y="4800600"/>
            <a:ext cx="26575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368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АСИФИКАЦИЈ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36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у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бинова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012f"/>
          <p:cNvPicPr/>
          <p:nvPr/>
        </p:nvPicPr>
        <p:blipFill>
          <a:blip r:embed="rId2"/>
          <a:stretch/>
        </p:blipFill>
        <p:spPr>
          <a:xfrm>
            <a:off x="928800" y="3643200"/>
            <a:ext cx="6931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РАКТУР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ОГ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т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узрок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рект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аж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год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ктур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прес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јалн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гм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из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скулар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в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вара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пре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у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д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минант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628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ФРАКТУР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ЕЛ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6280" y="1152000"/>
            <a:ext cx="8167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рект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р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ход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уктур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обичај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ж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ормит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годи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нок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уште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во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монголоид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есте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трибуцио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. infraorbitali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пло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fracture-zygoma-and-maxila1"/>
          <p:cNvPicPr/>
          <p:nvPr/>
        </p:nvPicPr>
        <p:blipFill>
          <a:blip r:embed="rId2"/>
          <a:stretch/>
        </p:blipFill>
        <p:spPr>
          <a:xfrm>
            <a:off x="4643280" y="4500720"/>
            <a:ext cx="2724480" cy="204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Copy%20of%20DSC00327"/>
          <p:cNvPicPr/>
          <p:nvPr/>
        </p:nvPicPr>
        <p:blipFill>
          <a:blip r:embed="rId3"/>
          <a:stretch/>
        </p:blipFill>
        <p:spPr>
          <a:xfrm>
            <a:off x="1428840" y="4500720"/>
            <a:ext cx="2733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Gray154"/>
          <p:cNvPicPr/>
          <p:nvPr/>
        </p:nvPicPr>
        <p:blipFill>
          <a:blip r:embed="rId2"/>
          <a:stretch/>
        </p:blipFill>
        <p:spPr>
          <a:xfrm>
            <a:off x="5429160" y="1643040"/>
            <a:ext cx="351180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55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ве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ц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ост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рами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а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вил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уњ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уж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т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us frontalis, processus alveolaris, processus zygomaticu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us palatinus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ц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честв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ид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ФРАКТУР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620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бинов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буч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мотач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шић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уњ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ву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ину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њ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лапс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рнија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лар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нофталм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лап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фун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rectus inferior</a:t>
            </a: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нофталм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ж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тоз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инутив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те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и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sep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orbit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об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лачи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раћ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к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гзофталм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у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робулб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5685009-large"/>
          <p:cNvPicPr/>
          <p:nvPr/>
        </p:nvPicPr>
        <p:blipFill>
          <a:blip r:embed="rId2"/>
          <a:stretch/>
        </p:blipFill>
        <p:spPr>
          <a:xfrm>
            <a:off x="5500800" y="4429080"/>
            <a:ext cx="3052800" cy="2054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1157"/>
          <p:cNvPicPr/>
          <p:nvPr/>
        </p:nvPicPr>
        <p:blipFill>
          <a:blip r:embed="rId3"/>
          <a:stretch/>
        </p:blipFill>
        <p:spPr>
          <a:xfrm>
            <a:off x="928800" y="4714920"/>
            <a:ext cx="41925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ФРАКТУР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040" y="131868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о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у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blow-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наж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аткотрај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уп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дара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сн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уд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м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нис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п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гл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дростатск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и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улб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днекс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пор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н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цил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cus minoris resistentiae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егов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спрскав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лап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ксил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едјив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такт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искус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ка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вод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греш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вљањ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в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мо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мографск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нима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image024"/>
          <p:cNvPicPr/>
          <p:nvPr/>
        </p:nvPicPr>
        <p:blipFill>
          <a:blip r:embed="rId2"/>
          <a:stretch/>
        </p:blipFill>
        <p:spPr>
          <a:xfrm>
            <a:off x="5083200" y="2143080"/>
            <a:ext cx="39085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BLOW-OU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РА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480" y="1142640"/>
            <a:ext cx="85532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олов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ло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blow-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кту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аж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аткотрај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уп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буч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ара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сн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уд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нис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п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дростатск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лбу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днекс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пор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н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ци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us minoris resistentiae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его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прска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лап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лар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ус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ји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актан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BlowoutFx"/>
          <p:cNvPicPr/>
          <p:nvPr/>
        </p:nvPicPr>
        <p:blipFill>
          <a:blip r:embed="rId2"/>
          <a:stretch/>
        </p:blipFill>
        <p:spPr>
          <a:xfrm>
            <a:off x="1643040" y="4357800"/>
            <a:ext cx="3203640" cy="20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Orbital-floor-r"/>
          <p:cNvPicPr/>
          <p:nvPr/>
        </p:nvPicPr>
        <p:blipFill>
          <a:blip r:embed="rId3"/>
          <a:stretch/>
        </p:blipFill>
        <p:spPr>
          <a:xfrm>
            <a:off x="5715000" y="4357800"/>
            <a:ext cx="2165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00" y="1159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543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ук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фикас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ж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омпикова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гомат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ук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рку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штр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зуб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у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е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умат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и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љештењ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рмал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атомс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ици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Z60_i510_S"/>
          <p:cNvPicPr/>
          <p:nvPr/>
        </p:nvPicPr>
        <p:blipFill>
          <a:blip r:embed="rId2"/>
          <a:stretch/>
        </p:blipFill>
        <p:spPr>
          <a:xfrm>
            <a:off x="6143760" y="4664160"/>
            <a:ext cx="27003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2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РЕПОЗИЦИЈ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СТЕОСИН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4892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ератив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р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еб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бор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ебр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б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плор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оч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инутив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ег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венту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ек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карцер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пози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иц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лочиц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констру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ек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плантатима или алопластичним материјал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Z30_ORIF-3point_i305_AB_L"/>
          <p:cNvPicPr/>
          <p:nvPr/>
        </p:nvPicPr>
        <p:blipFill>
          <a:blip r:embed="rId2"/>
          <a:stretch/>
        </p:blipFill>
        <p:spPr>
          <a:xfrm>
            <a:off x="4714920" y="2357280"/>
            <a:ext cx="388620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ИГОМАТИЧН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СТ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Д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JNatScBiolMed_2012_3_2_161_101900_f5"/>
          <p:cNvPicPr/>
          <p:nvPr/>
        </p:nvPicPr>
        <p:blipFill>
          <a:blip r:embed="rId2"/>
          <a:stretch/>
        </p:blipFill>
        <p:spPr>
          <a:xfrm>
            <a:off x="990720" y="1447920"/>
            <a:ext cx="6810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4240" y="1143000"/>
            <a:ext cx="896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актериш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циф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истич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ог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столош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зич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ин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н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иј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н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дљив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ач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влад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рст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порност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к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ул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виј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иб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еб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д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нат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ел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а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een sti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67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ел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а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аст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ц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пу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ч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зр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аст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витљ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оред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наш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еле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у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јед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м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кушај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JIndianSocPedodPrevDent_2011_29_6_104_90758_f1"/>
          <p:cNvPicPr/>
          <p:nvPr/>
        </p:nvPicPr>
        <p:blipFill>
          <a:blip r:embed="rId2"/>
          <a:stretch/>
        </p:blipFill>
        <p:spPr>
          <a:xfrm>
            <a:off x="4865760" y="1484280"/>
            <a:ext cx="374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ч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ебност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ле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и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уп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л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чвасти облик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о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ч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гат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ал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гатур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ле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и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ован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в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погодни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њ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оде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воде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рилат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линто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шови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и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обилизац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обичај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од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ЛОМ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ИЛИЦ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640" y="1238400"/>
            <a:ext cx="4768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дент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растањ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узет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а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о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е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дељ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л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о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дини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он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ж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мулис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овилич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тодо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говарају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вато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иље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рурш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пози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об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њ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узе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ћ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те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ме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синтет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теријалом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330v54n03-90231933fig4"/>
          <p:cNvPicPr/>
          <p:nvPr/>
        </p:nvPicPr>
        <p:blipFill>
          <a:blip r:embed="rId2"/>
          <a:stretch/>
        </p:blipFill>
        <p:spPr>
          <a:xfrm>
            <a:off x="5143680" y="1214280"/>
            <a:ext cx="3501720" cy="2616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ontempClinDent_2010_1_4_291_76406_f4"/>
          <p:cNvPicPr/>
          <p:nvPr/>
        </p:nvPicPr>
        <p:blipFill>
          <a:blip r:embed="rId3"/>
          <a:stretch/>
        </p:blipFill>
        <p:spPr>
          <a:xfrm>
            <a:off x="5143680" y="3929040"/>
            <a:ext cx="35049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501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тиоло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е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обраћај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ступљ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2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у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%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р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.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руже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ел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обраћ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тиоло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ступљ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3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tra"/>
          <p:cNvPicPr/>
          <p:nvPr/>
        </p:nvPicPr>
        <p:blipFill>
          <a:blip r:embed="rId2"/>
          <a:stretch/>
        </p:blipFill>
        <p:spPr>
          <a:xfrm>
            <a:off x="6215040" y="3214800"/>
            <a:ext cx="25430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2232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МЕХАНИЗАМ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НАСТАНК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ВР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рект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д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директ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а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си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дностав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д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олова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друже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вреда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рб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п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в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колн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руктурам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јствујућ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нос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сед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мпактни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та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повређе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рактурира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ње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аби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зна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лизи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ту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г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декват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ндгенограф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ANd9GcTFxWtEZmOMg8qo5YxkFEeRRb-93S1P-BlRkeWzaAAu9zRgfcms"/>
          <p:cNvPicPr/>
          <p:nvPr/>
        </p:nvPicPr>
        <p:blipFill>
          <a:blip r:embed="rId2"/>
          <a:stretch/>
        </p:blipFill>
        <p:spPr>
          <a:xfrm>
            <a:off x="1785960" y="3643200"/>
            <a:ext cx="54100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3960" y="260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0040" y="1213920"/>
            <a:ext cx="83930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мне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систир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таљ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и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и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јектив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јектив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гоб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ничк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спек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истров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т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химо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фу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њункти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л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оч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кут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мфиз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ав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њираст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иноликворе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ор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гри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сеудопрогенију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гур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бнормал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епит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LF20_i210_L"/>
          <p:cNvPicPr/>
          <p:nvPr/>
        </p:nvPicPr>
        <p:blipFill>
          <a:blip r:embed="rId2"/>
          <a:stretch/>
        </p:blipFill>
        <p:spPr>
          <a:xfrm>
            <a:off x="1357200" y="4286160"/>
            <a:ext cx="2975040" cy="2203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untitled1"/>
          <p:cNvPicPr/>
          <p:nvPr/>
        </p:nvPicPr>
        <p:blipFill>
          <a:blip r:embed="rId3"/>
          <a:stretch/>
        </p:blipFill>
        <p:spPr>
          <a:xfrm>
            <a:off x="5357880" y="4227480"/>
            <a:ext cx="330048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ОВ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5480" y="1142640"/>
            <a:ext cx="87152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ас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нден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б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ст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искус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рапеу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и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еле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бољ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каз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ациј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терс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Waters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ј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аназал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упљ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ређе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пун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говарајућ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мографиј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јутеризов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мограф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ст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лекс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Н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ђе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ључ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врд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вентуа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итрау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Н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Le+Fort+1+CT"/>
          <p:cNvPicPr/>
          <p:nvPr/>
        </p:nvPicPr>
        <p:blipFill>
          <a:blip r:embed="rId2"/>
          <a:stretch/>
        </p:blipFill>
        <p:spPr>
          <a:xfrm>
            <a:off x="1571760" y="4500720"/>
            <a:ext cx="62942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АСИФИКАЦИЈ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ВРЕД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ЛОМ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на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асифика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ађ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р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er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1866;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ф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гит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нсверз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бинов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79926-79932-1799897-1875019tn"/>
          <p:cNvPicPr/>
          <p:nvPr/>
        </p:nvPicPr>
        <p:blipFill>
          <a:blip r:embed="rId2"/>
          <a:stretch/>
        </p:blipFill>
        <p:spPr>
          <a:xfrm>
            <a:off x="5715000" y="4508640"/>
            <a:ext cx="3276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5:58:06Z</dcterms:modified>
  <cp:revision>746</cp:revision>
  <dc:subject/>
  <dc:title>Diapositiva 1</dc:title>
</cp:coreProperties>
</file>